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B56B-FD71-4986-AB09-9E3B7443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22C-D526-498C-A9EA-DC763544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BE66-0E04-487B-8A5F-807AEED3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6155-7C14-498F-B8C8-F2D8E07E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5F14-09E1-4E6F-800B-1AF3F444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9B48-603F-4C8C-9B0B-E89C43AD4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DD87-9C88-453E-833E-8434DCED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1305-4015-4391-B4F1-EB305588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FB0A-5BF7-4454-A1FF-639CED74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DD30-251A-42B1-864B-C418E55E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B640-F7A9-4802-A32E-D89BF9A2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805-3E80-4C05-8B20-BFEE2F9E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B7EB-7FDF-4B63-AF7C-B13B62EB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563F-D787-494F-AD39-6CF3B635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03EE-B719-4FC6-A6E0-56B50570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1763-F7A7-4ABC-9779-39046093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7F7E-749E-4F64-B0CA-9C9DEE2A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BE5-D9E6-47DD-856C-95A613F8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8F9-98DB-4BA5-9D66-95D2CF24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9A0-C9CF-4595-B78D-C97D5B3A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034-8B5F-44E5-879F-45E53558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8215-1866-44F3-9D18-89CBBDEF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462-19F2-48CE-965E-434B4CF8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C11E-1616-4F40-B0B0-42D38416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E965-A92A-4995-839A-6CDEB7ADB3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3640-E453-4D6A-80DF-A329E4A662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AUNA  ACVATIC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PONIA –martie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4600" y="58672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ITUTOR  Chistol Feli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1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9422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8:32:54Z</dcterms:created>
  <dc:creator>pisu</dc:creator>
  <dc:description/>
  <dc:language>en-US</dc:language>
  <cp:lastModifiedBy>pisu</cp:lastModifiedBy>
  <dcterms:modified xsi:type="dcterms:W3CDTF">2007-03-17T18:58:14Z</dcterms:modified>
  <cp:revision>3</cp:revision>
  <dc:subject/>
  <dc:title>FAUNA  ACVATICA</dc:title>
</cp:coreProperties>
</file>